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8B8-FE66-4A94-8C2C-7BA3F5F8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6AE-8E25-42FD-A840-450A9ADA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DFE3B-09FE-42BD-9643-7D4D83A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54BE5-82CC-4E53-BC01-37FC2B53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EE661-01E4-4E0C-A648-0E910932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6D7F1-5EAA-41DF-A591-039D30C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0C732-92E8-48ED-B353-07357B2C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B07CD-B721-4158-B42A-D4BF8892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82BA5-E0C2-4AB1-A5A1-E76E56D0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38C94-F47F-4D4E-9707-8675C5D5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0270D-009C-4F30-A9F6-B8A6D831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53C4-32F6-4E77-A195-CBE80FE0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0B7-0920-49DF-B8AD-3C8EF567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43C25-E576-4E2B-86B1-2D44A55C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B7972-B281-45CE-9F5D-D03F7801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16C0A-7B9B-477A-923B-61C69C3C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ADD71-B5C2-486F-A833-12F93FCB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785F7-611A-4ED6-9546-82640110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61E54-15DA-487D-8F6A-EEF3ED2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C3264-DFC6-4B27-AF9A-E3229A4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52BCC-DE72-491D-9DDD-195AC56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EF31-C89A-4520-99BE-5104858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A3EB0-30C0-48CE-AC84-3A1AA406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B37-8F75-4E00-9E27-0EAD72F9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EF562-7425-49F7-9AD2-BD92530F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8E694-7741-4260-B1DE-103B14B9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AC22D-892E-46DD-9D7D-BA088AC0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B95D4-27AA-444D-91D1-538DBBB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225B4-68D2-4D81-BFBC-CAB74474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FFCCB-7E50-4F20-93E4-49EF9255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AFFE-EAE3-4728-97F8-FD474214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C7783-43F5-461C-860C-6242968F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EF5AA-7527-401F-AC53-5487C86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94529-7286-4DC8-AE7E-1FE9F63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C9F9-44F3-4F88-8934-02F2D1B2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C5924-2EB3-4E9F-BF88-6063D2D9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E291D-A60A-449B-BA95-FDFD8807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4EB72-D92D-429E-9072-D2BD4B02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53320-28CB-4806-846C-602B25EB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0ECA7-96D0-40C5-984B-85B046AA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3EB7B-69EC-45E5-BB49-D1A6187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61585-269E-4B37-A01A-CA0CE7A7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2C3BD-9E9D-4234-BCF1-7974509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FDCBD-2E96-4A5D-8CB8-455F5F16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C2E98-8062-4426-8B54-DF93396D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9CCC-1977-4EF2-AEA5-EF97A19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57486-8231-48AF-B8F4-4A9AC11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8164E-1048-4FD6-A141-73CDD345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47A34-DB47-4059-934F-AB8994C5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597F2-DF79-401A-976D-9F0F35BF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BB00B-381F-4640-8076-3919BF14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EF5B2-545A-47AA-9E38-8A3FE2D4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06430-612B-47E1-B33D-32C8E20F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F0B05-672E-4801-BE03-7A768D5C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CFE12-9BC6-4D3B-99EB-E109658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84C92-F9F4-4706-89DB-067149C7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112-86A4-4F40-A2B9-6D0D72CA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9F72E-B76E-4E62-8300-7F7E38D0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380ED-BBB3-4A07-ACAD-97E7E285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53D99-4BE1-4EDD-A252-C87DFEA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B10F9-45C4-4D2B-A7A7-1B4D50D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9AB18-DC54-4831-9CC0-8DD7B445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2A855-F14B-479C-82CD-B5C59732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3E64C-22E1-41E7-82A4-913B82BF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75818-F29A-439C-977E-96F5D888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D6E47-49F1-4D4E-95E3-AAD61AFC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211D0-39D9-4DB9-8EC8-F9C06699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DC4-2BC4-4A74-A306-A2FB054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0D30B-1EB9-4E42-A427-1750DF2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FE823-DEC2-4F08-99D4-A6DCCD7E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55D34-13B3-4435-BA71-FDBAFD7F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73B4D-A9D2-4C43-8C9E-CF47F8F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E573F-8FA9-49C1-8978-9F3990C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2133A-F6A3-4F14-8AC0-B4C1C1BF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8A925-5CC9-43BE-B563-779F517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6BA29-8E97-4545-B746-57F4CB56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D55D4-F2FF-40EE-803D-588105C6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E4AB2-A824-417D-B225-E4E5F041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EDA5-5950-4B94-8AE1-90BD381A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C8B2B-B9B6-4302-8315-18536D0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79CC7-06BB-46EC-A4C2-03B329E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54B5E-7B8C-4FD2-8CEA-8D07E3D0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01A7A-7022-4410-9252-4FF4CDC5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D8EF8-4078-4CF7-86A8-6D428066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BC28A-EB0A-4371-AAB6-ED737ECE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A541D-DAEB-4E4B-A82A-62029A4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1A360-6F22-4108-B4E3-2E545638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07316-E243-4182-8A94-C9AF9658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61FD4-A8C9-4181-94AC-E7831A67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61F0-155D-45F3-AD4A-CF3EC3A6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34929-64D5-4217-931F-612B2073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3269D-65AA-4971-B4EE-D907ED74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4C7AB-8E7A-447B-9874-459D0656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892A7-4F73-4790-8896-8C504CD2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B9DE0-C910-45E5-AF6A-EC34ECED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35327-BB44-4D24-9EA1-10B6B777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52823-3E65-4A55-96DC-0105E1D7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335C0-BA98-42A7-9D37-AF44473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0B052-D7A1-4BAE-B453-538643F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1926F-230C-4E98-ACCA-DFD567DB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FB19-FFF2-42A5-9394-487E262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2088A-A10E-4811-8B3B-83348C3B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10841-7DDB-41D4-99EE-FD296DB6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2AA73-1E10-4579-AD1E-92558252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14D3D-8126-4C18-A3AE-E65A6996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D20C2-0967-4EF9-81B2-8480AA2F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43876-BEFF-48DB-AE33-0CE0E723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12CE0-59CD-49B2-8995-CA6B8332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5E316-07B5-4C8F-B52F-C4B3811C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E4F9C-18AB-4AB5-B911-F1CD4FD5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EE1DC-C691-40B3-9F76-1CEEC19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063-1723-46ED-88D2-4113C335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4656-85A3-46B4-B804-DE9913F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A8AF3-BB1F-4C7F-8584-0B9A671B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8238F-7E43-40B5-95DE-AAAB20FE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DAB12-5199-4BE9-89BD-A2219D59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00F7F-071F-4673-8996-865E49A2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B4CB5-3978-4C39-B36E-2F04C49B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6321A-A1BD-481C-A2AC-A5CBC292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780D6-8CFF-4182-BDA1-7028D8DF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D96CC-78E7-4C20-B388-0B5F7BC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48B36-FA01-4613-9F39-B166F6C1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F1F48-7510-4D40-B9E3-F26ABBD8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5400-4C2D-4179-80D9-91D74415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7464D-3D5B-4E72-BCBD-1C46B14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759EB-BE88-4AE5-88C5-7F02A14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A7DA1-0A07-4905-BC54-3572248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F4A1B-1A3F-462C-A585-E79CC0C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12050-69C9-4B8A-9F6E-28B83E7F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F0CD0-7112-40CF-97A9-8EC2A2B7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44D3F-FEC2-4B41-A4FC-A2AA251A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45D28-13C2-43D2-A211-C9425ADB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4BA63-73BA-4B76-9BDB-37BD8952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BA38E-67E1-405C-B5ED-147DDFFD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6C35-29E3-4E52-9717-27EB0447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FEF61-4300-450B-97C5-4DF84086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27D8F-6836-467C-AD49-21891551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7A8E4-6088-4A50-8B8D-356983EE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2AFB1-0EAF-40BA-BC7F-EF2D4DC3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EC4B2-4F8A-4123-BE51-9033FED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9C4AB-9DE1-4F6D-A8FC-0A135BF2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179F8-3672-4D7F-916D-9F09444E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506F1-54BC-4091-8447-A8C78794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4C07A-DD62-4CEF-A985-1EE5CD52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6215B-416E-4343-825B-2EB66B73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347-7521-4919-9D7C-747C2049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BAAFBB-D355-4D35-A8AA-B321927B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FCF07-9C2B-4D03-A8F4-FE9D6C5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B3860-F66E-4127-8463-EE3200F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91C6B-990C-460D-8B37-3C6AC45D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D2525-2C90-40C4-8B31-BFFA391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44FE2-A4A1-48A0-869D-1096B9F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F3F60-369F-426F-A0B0-64945B74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560F4-2F8B-4FFE-A8F2-D4333EF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6FF61-B720-42D0-812A-B067181E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B9191-E0C8-45AD-993F-39EEEB4C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C95-7A80-4302-BFB0-D1580462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56C36-EEC3-408B-B2C1-40DC44D9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6518F-442B-4FE6-903F-3C2A471F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93C2A-B58D-44F1-B5EB-D5D22E3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95134-65A2-40FF-98D6-09327299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0641B-BDA9-47DE-9C58-62C16D8F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DD4A2-1E14-4F41-B987-C0E637E1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39DBB-DC05-44C4-A25C-B3CD946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32F4EF-DF2B-4E9A-AE99-53C6FD7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8BE04-536E-440C-B875-1D8F41F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F2D2F-B9AB-4E54-959C-7A78ED5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31FE-458F-4BA2-A45C-05404028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7FFA3-ABA8-41DA-A1C0-F4D5499B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5FC68-07C3-4DD6-B1EC-C0B0A21C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FCB20-8C55-4860-8DF4-9B57419A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D3FF-62C8-414D-9CCA-C55ADF5C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842D-7315-4B56-AFD3-E3FD353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7749-68C5-4B96-9691-BF210174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980C-273D-43BC-92A0-72CA7D82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F2D-66F2-443D-BED4-3AB69C6A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AEB2-021A-4984-823C-9317CFA3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AA5D-BED6-4F90-8D20-08796AE0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0022-5E92-43EA-ADF5-D679C29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FEAE-2E4F-4C89-A4DA-A6DF4920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0438-EF0E-498E-8CDB-6AD91E9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576E-5EED-4773-9F22-5A6488E3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60B3-0537-4305-9145-078D2A5A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68984-935A-4D6A-B8D8-928B5262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E8E3-EEDB-4856-8391-C727D123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DB55-ADD9-4EE0-869F-E30FCEC5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632-38A8-4E07-8B85-38142163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670C8-ABC3-49EB-B587-609CFF14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B9930-AC8D-4E66-A5AB-68B9981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D529-10AA-45A3-B63F-C7BD2C19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4C37-4F83-42A9-9BA6-62B9819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A1E0-4E03-4A58-ABE8-26C8C7F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3F00-8095-41B3-BA33-C01B0DB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B4B6-5EBF-4AEE-BA65-B20F90A6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A46E-EB18-48AE-A288-69BCA050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D70A-8240-4F8B-99BB-A5A691DA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BBE9-A13D-446D-BD95-5FB1BD9D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678-3615-41FF-A4F0-94D977D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0134-013D-4EA3-8041-D71D4B4F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60FDC-8C01-4BB8-A99C-4F5FE97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882BC-0ADC-4C1A-ABDE-E7BA0C83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BBFE-A8EA-4CE3-8DF3-03A0967F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23EB1-BF14-4BBC-92C0-85FC8EE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CE00-4264-4A85-AE6A-4D19CE22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F30E0-08E5-4018-9D1A-1CB7F372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AC22-B26D-408D-92BA-404D399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2175-86E8-4DA6-B2C1-6AFD277E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1ACAE-D1A1-4575-BCB2-06A96359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29E-810A-4AAE-965D-4A259143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3FAEC-210A-4ED1-9290-DEB9CCBC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5C26-1607-4395-BD9D-5CB0EBA0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D2CB-3394-404D-AF00-8D4A7FA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4C3C7-91F7-4644-AE0E-C67F4ECD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8E58C-5AB8-4126-8511-9E1849F0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3DC20-B7EC-40E9-B0BD-D822AF6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ED41F-825B-41F6-A51D-CCA0A8A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76B9-9E5C-45D3-9F08-1B9C4FE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9D1A0-E868-418A-B0E4-4CF6B40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748C8-1779-44F0-B8C1-DFCEBBD6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61B-B54E-4B71-998D-BD656425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D1043-A6CC-42AD-8ED8-CC83CF13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2542-4E0D-45D8-A2D6-231997C6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15485-85A6-4F45-A928-A340117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D9DA3-76B0-41EE-A30F-FC0D5D07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02780-6750-4195-97BE-1B59B08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98018-D482-46B6-ACF5-DEFFA2C2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778E2-B44F-437D-A145-AA952E9A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5C5ED-4C2F-490B-97C3-BF899D0F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2815B-2DCA-41D5-AA99-E2F26EE3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E7410-F9CE-4A62-B498-1F9D5F2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BB8-6FFC-441F-82C7-EEA8AA7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14AD-7E23-4AD7-8A27-C1590DF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DFEA-2F7A-4971-917A-6C358F3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A209-8992-41E5-9AB6-6B755C6D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5924-AA7F-42BF-A962-5E46D0B6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8ABAE-2C57-446F-AD2E-47378F86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EB90B-B35E-4408-9D72-D9C3CC75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8DCF-D18E-44D6-8645-7678693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3C12F-F2D9-48C6-9388-CC3484D2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3171A-97D3-4824-AC57-2A35A97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6A87-857F-4C9A-B85C-78308D89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D0D-4B7D-48F4-B4A8-8089F8AA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DCD6B-1F2E-4A24-9C66-FF9E2AC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15B89-EC70-434F-B1C4-010D7589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ECAED-7410-40F5-BCDD-4659581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AF438-D417-4B6F-9771-ADD5939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91AFE-1857-4C72-9A57-8E3488A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14423-46AD-49B3-BA5D-65D72697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4FDF0-1440-4337-82FC-9CA50824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E3303-1365-45DC-A8D3-FDC8F9CD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9B38F-1333-4D98-A6E7-44824262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6D7BA-0071-4AE6-B61A-5DF2A63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5A5D-52F0-400D-B427-87B2E5A6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CBD-7656-4923-B10B-1B37C1C70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D92-60E3-4494-BDD3-AD1E5613DB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0FF-CA79-417D-A41A-CC0F335EE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738-3839-464B-9F5F-AD108CD954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5E40-E015-4DEE-84A6-1206A5662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07A5-B7FB-4523-A0C4-DB811271F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B368-6508-4568-8D75-301336176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E4EB-DB01-4CEB-8146-0C75E278A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CC75-9703-45C0-A22E-B92D487BC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D015-63C1-4BC2-99BC-A4EA82470E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BF2D-2BA0-434C-9B17-CE2EB4DD0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9988-CA8E-4A42-90A6-35715C297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A9D-88FD-45E3-874A-A105F2B2E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640B-8822-48B3-84FE-956F93DA5C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799F-E9BF-4D28-8DF4-D2B761B7D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359C-4609-47CB-ABD7-25E47FA41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A8F-AB2E-4458-9714-D0FB72AB04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999-878E-43F7-815A-24DC80594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0209-B1DB-4662-9542-E4FDB6BBB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6B32-E365-47DE-8A68-23158DC196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43D-9E95-4AE9-ACC2-7B443BC892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700C-3C20-4759-B53A-8B54FD929D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CB81-DBDE-40C8-B605-98C971078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B4A0-CB5E-40F3-8281-CE32E79F22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B69C-065C-45CF-93AD-4FAF27528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4ACA-E679-46A8-BA62-B0693D03D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B6D-2D1B-4484-81E7-47DA344F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CF05-3B42-43AE-8FC1-BEBD2FB532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8546-B3E7-4164-BAEB-43A18C98D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EC0B-60FB-4934-8DA8-EA4775B69B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491C-6859-484D-A29A-60B7807A9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297-FD6E-4C8D-8C8A-E818853E1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5E9C-31A1-4C89-8D98-ADA58B9B3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0EC8-7D62-421E-BEE0-6D7A138F75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92C9-B800-4A12-ADF5-3819DA39E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88C9-C92D-4785-A887-424938F56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C3ED-EE9D-4D0A-B279-23AF0125A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050-66B8-4FF0-9EC9-1E345A369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E0AA-AA96-41DE-822E-F0520903E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2448000" y="2986200"/>
            <a:ext cx="42480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404640" y="920880"/>
            <a:ext cx="7734600" cy="52387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6064200" y="20811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515880" y="1157400"/>
            <a:ext cx="7943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62465" descr=""/>
          <p:cNvPicPr/>
          <p:nvPr/>
        </p:nvPicPr>
        <p:blipFill>
          <a:blip r:embed="rId1"/>
          <a:stretch/>
        </p:blipFill>
        <p:spPr>
          <a:xfrm>
            <a:off x="208080" y="915840"/>
            <a:ext cx="8010360" cy="39150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62466"/>
          <p:cNvSpPr/>
          <p:nvPr/>
        </p:nvSpPr>
        <p:spPr>
          <a:xfrm>
            <a:off x="5919840" y="91584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61441" descr=""/>
          <p:cNvPicPr/>
          <p:nvPr/>
        </p:nvPicPr>
        <p:blipFill>
          <a:blip r:embed="rId1"/>
          <a:stretch/>
        </p:blipFill>
        <p:spPr>
          <a:xfrm>
            <a:off x="295200" y="944640"/>
            <a:ext cx="8058240" cy="3429000"/>
          </a:xfrm>
          <a:prstGeom prst="rect">
            <a:avLst/>
          </a:prstGeom>
          <a:ln w="0">
            <a:noFill/>
          </a:ln>
        </p:spPr>
      </p:pic>
      <p:sp>
        <p:nvSpPr>
          <p:cNvPr id="1029" name="矩形 61442"/>
          <p:cNvSpPr/>
          <p:nvPr/>
        </p:nvSpPr>
        <p:spPr>
          <a:xfrm>
            <a:off x="6323040" y="97488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60417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725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9393" descr=""/>
          <p:cNvPicPr/>
          <p:nvPr/>
        </p:nvPicPr>
        <p:blipFill>
          <a:blip r:embed="rId1"/>
          <a:stretch/>
        </p:blipFill>
        <p:spPr>
          <a:xfrm>
            <a:off x="434880" y="952560"/>
            <a:ext cx="8067600" cy="52102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59394"/>
          <p:cNvSpPr/>
          <p:nvPr/>
        </p:nvSpPr>
        <p:spPr>
          <a:xfrm>
            <a:off x="1946160" y="15699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69" descr=""/>
          <p:cNvPicPr/>
          <p:nvPr/>
        </p:nvPicPr>
        <p:blipFill>
          <a:blip r:embed="rId1"/>
          <a:stretch/>
        </p:blipFill>
        <p:spPr>
          <a:xfrm>
            <a:off x="673200" y="1020600"/>
            <a:ext cx="77626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8:18:41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